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E30-621D-4918-9CC9-F9ABE2B2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906-21D2-43AB-9245-F5AD94A6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F45-0FE0-4189-8C38-82F1853E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E5A-D17B-4B4D-AFC8-8FCA9CCC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D8A-8825-46A0-A357-85F68142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5CBB-BCAB-49B3-BBD2-4D73476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F1DC-3E0B-47F6-B6FF-CD68008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585A-C32F-467F-B74E-27E159FE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CBF-03AC-4EC0-9C3C-D356091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DB12-0B37-4DE9-B7EC-8E9D0F8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CB35-78AF-4365-A2CD-897CD92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B4C-B20F-40C4-AE2F-A93B2D8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B82-8195-4FD1-BF99-C7A4BB4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84E-F47B-401B-A1A8-CD72195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8594-A4F3-4E0D-971B-76AB56E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8A30-5FA1-447F-8B94-1AE5EA6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E20-4308-4C46-8433-C8108714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31B-FD68-445E-9F1C-5AB5E7C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CF9-0166-4F71-9E3C-1F4BF3B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85A-4207-4144-B7B0-42E0593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F6B-65D4-4DFB-9546-3276B63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B05-29B1-4079-813A-CEDA4FD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E2E-BE2E-484D-BB1B-E74C80F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6FD-D952-411C-B3A2-A009EFA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542F-E09D-4D89-AFAB-8C26CF647AD4}" type="slidenum">
              <a:rPr b="0" lang="ar-OM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EF62-314C-4FD0-852D-D48D14176C12}" type="slidenum">
              <a:rPr b="0" lang="ar-OM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9933"/>
                </a:solidFill>
                <a:latin typeface="Arial"/>
                <a:cs typeface="Arial"/>
              </a:rPr>
              <a:t>تطور مفهوم تكنولوجيا التعلي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501720" y="6513480"/>
            <a:ext cx="213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كود: منط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552720" y="2282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Tahoma"/>
              </a:rPr>
              <a:t>جامعة السلطان قابوس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Tahoma"/>
              </a:rPr>
              <a:t>كلية التربي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Tahoma"/>
              </a:rPr>
              <a:t>قسم تكنولوجيا التعلي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2139840"/>
            <a:ext cx="7467480" cy="4718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9933"/>
                </a:solidFill>
                <a:latin typeface="Arial"/>
                <a:cs typeface="Arial"/>
              </a:rPr>
              <a:t>الأسس النفسية و المعرفية لاستخدام</a:t>
            </a:r>
            <a:br>
              <a:rPr sz="4000"/>
            </a:br>
            <a:r>
              <a:rPr b="0" lang="hi-IN" sz="4000" spc="-1" strike="noStrike">
                <a:solidFill>
                  <a:srgbClr val="ff9933"/>
                </a:solidFill>
                <a:latin typeface="Arial"/>
                <a:cs typeface="Arial"/>
              </a:rPr>
              <a:t>تكنولوجيا التعلي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Arial"/>
                <a:cs typeface="Arial"/>
              </a:rPr>
              <a:t>مخروط الخبرة لـ ”دي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le</a:t>
            </a:r>
            <a:r>
              <a:rPr b="0" lang="ar-OM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976320"/>
            <a:ext cx="889164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33"/>
                </a:solidFill>
                <a:latin typeface="Arial"/>
                <a:cs typeface="Arial"/>
              </a:rPr>
              <a:t>تطور مفهوم تكنولوجيا التعلي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رحلة الأول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وفقاً للحواس (التعليم السمعي، التعليم البصري، التعليم السمعي-البصري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7760" y="3581280"/>
            <a:ext cx="27082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33"/>
                </a:solidFill>
                <a:latin typeface="Arial"/>
                <a:cs typeface="Arial"/>
              </a:rPr>
              <a:t>تطور مفهوم تكنولوجيا التعلي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رحلة الثان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كمعينات تدريس (وسائل الايضا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396216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33"/>
                </a:solidFill>
                <a:latin typeface="Arial"/>
                <a:cs typeface="Arial"/>
              </a:rPr>
              <a:t>تطور مفهوم تكنولوجيا التعلي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رحلة الثالث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كوسائط اتصال (نظرية الاتصال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810240" cy="24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9933"/>
                </a:solidFill>
                <a:latin typeface="Arial"/>
                <a:cs typeface="Arial"/>
              </a:rPr>
              <a:t>تطور مفهوم تكنولوجيا التعلي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رحلة الرابع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وفقاً لأسلوب المنظومات (منظومة متكامل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3216240"/>
            <a:ext cx="358164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99"/>
                </a:solidFill>
                <a:latin typeface="Arial"/>
                <a:cs typeface="Arial"/>
              </a:rPr>
              <a:t>مفهوم تكنولوجيا التعل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00"/>
                </a:solidFill>
                <a:latin typeface="Arial"/>
                <a:cs typeface="Arial"/>
              </a:rPr>
              <a:t>تكنولوجيا التعليم هي عملية</a:t>
            </a:r>
            <a:r>
              <a:rPr b="0" lang="ar-OM" sz="2800" spc="-1" strike="noStrike">
                <a:solidFill>
                  <a:srgbClr val="008000"/>
                </a:solidFill>
                <a:latin typeface="Arial"/>
                <a:ea typeface="Arial"/>
              </a:rPr>
              <a:t> متكاملة</a:t>
            </a:r>
            <a:r>
              <a:rPr b="0" lang="ar-SA" sz="2800" spc="-1" strike="noStrike">
                <a:solidFill>
                  <a:srgbClr val="008000"/>
                </a:solidFill>
                <a:latin typeface="Arial"/>
                <a:ea typeface="Arial"/>
              </a:rPr>
              <a:t> تعتمد علي الأفراد و الهيئات و الأدوات و الإجراءات و النظريات لتحليل مشكلات </a:t>
            </a:r>
            <a:r>
              <a:rPr b="0" lang="ar-OM" sz="2800" spc="-1" strike="noStrike">
                <a:solidFill>
                  <a:srgbClr val="008000"/>
                </a:solidFill>
                <a:latin typeface="Arial"/>
                <a:cs typeface="Arial"/>
              </a:rPr>
              <a:t>عملية التعلم </a:t>
            </a:r>
            <a:r>
              <a:rPr b="0" lang="ar-SA" sz="2800" spc="-1" strike="noStrike">
                <a:solidFill>
                  <a:srgbClr val="008000"/>
                </a:solidFill>
                <a:latin typeface="Arial"/>
                <a:cs typeface="Arial"/>
              </a:rPr>
              <a:t>و تصميم و تطبيق و إدارة و تقويم الحلول له</a:t>
            </a:r>
            <a:r>
              <a:rPr b="0" lang="ar-OM" sz="2800" spc="-1" strike="noStrike">
                <a:solidFill>
                  <a:srgbClr val="008000"/>
                </a:solidFill>
                <a:latin typeface="Arial"/>
                <a:cs typeface="Arial"/>
              </a:rPr>
              <a:t>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9933"/>
                </a:solidFill>
                <a:latin typeface="Arial"/>
              </a:rPr>
              <a:t>تطور مفهوم تكنولوجيا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822d"/>
                </a:solidFill>
                <a:latin typeface="Times New Roman"/>
              </a:rPr>
              <a:t>أهمية استخدام تكنولوجيا التعلي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5909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Times New Roman"/>
              </a:rPr>
              <a:t>الانفجار </a:t>
            </a:r>
            <a:r>
              <a:rPr b="0" lang="ar-OM" sz="2800" spc="-1" strike="noStrike">
                <a:solidFill>
                  <a:srgbClr val="000000"/>
                </a:solidFill>
                <a:latin typeface="Tahoma"/>
              </a:rPr>
              <a:t>المعلوما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Times New Roman"/>
              </a:rPr>
              <a:t>زيادة أعداد المتعل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Times New Roman"/>
              </a:rPr>
              <a:t>عدم تجانس المتعل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Times New Roman"/>
              </a:rPr>
              <a:t>الارتقاء المهني بالمعل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000000"/>
                </a:solidFill>
                <a:latin typeface="Times New Roman"/>
              </a:rPr>
              <a:t>الارتقاء بجودة التدري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24764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822d"/>
                </a:solidFill>
                <a:latin typeface="Arial"/>
                <a:cs typeface="Arial"/>
              </a:rPr>
              <a:t>الأسس النفسية و المعرفية لاستخدام تكنولوجيا التعلي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نظريات التعل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تعلم السلوك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تعلم المعرف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تعلم البنائ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822d"/>
                </a:solidFill>
                <a:latin typeface="Arial"/>
                <a:cs typeface="Arial"/>
              </a:rPr>
              <a:t>تكنولوجيا التعليم و نظرية الاتصال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94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نظرية الاتص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نظرية الاتصال و تكنولوجيا  التعلي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رس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وسي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قب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"/>
              </a:rPr>
              <a:t>المج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5791320" cy="287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2:16:30Z</dcterms:created>
  <dc:creator>asadik</dc:creator>
  <dc:description/>
  <dc:language>en-US</dc:language>
  <cp:lastModifiedBy>asadik</cp:lastModifiedBy>
  <dcterms:modified xsi:type="dcterms:W3CDTF">2005-09-11T12:34:09Z</dcterms:modified>
  <cp:revision>115</cp:revision>
  <dc:subject/>
  <dc:title>مفهوم تكنولوجيا التعليم</dc:title>
</cp:coreProperties>
</file>